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2152-040E-41F2-B570-26DBEA5B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6138B-9861-4E5B-8BFE-593F6C5E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CA318-A1E6-45C6-A7ED-68417D9D1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A606F-E212-463A-84E3-DE6E75E2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270A-5014-4E14-B190-E7DC84E1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8171-46B7-42BF-829E-D68884BC0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B71A-C34B-4E37-8301-37624405E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4FB2-A0B1-4643-91CF-7D5DBA50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729C-3215-4B83-A8E7-E62352508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F171A-13AD-425E-8A56-92A44DE9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7B839-87DB-4FF3-9603-965F322B6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FF78D-7186-4438-960D-6117F828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8FE4-D9C9-4CA4-9324-9907EAE0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B87D6-8FBE-4922-94E0-50246385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B6D2-0E23-4E4C-B1E7-206662972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18AF-8A71-4425-A7E8-38A6B110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233F-CD17-4C9C-8BF5-BBF9E925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188E6-189C-4693-BD32-9E152D94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6EAD3-F888-49FA-9160-E1FF2789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36F9-2EAC-4F28-915A-F3131FA49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A4410-291A-4B55-921A-F9EFFD74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EE0C3-8E5F-479C-A45B-CBEE9AF8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F1721-7088-478E-BA03-B138CAC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CC2B-1C58-451B-8BF9-D8C78004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46C-D18B-4C6E-AED5-93800FB4DD69}" type="slidenum"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7297-5AA0-42BB-BAC6-DCF7E3BF9FD7}" type="slidenum">
              <a:rPr b="0" lang="zh-CN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600" spc="-1" strike="noStrike">
                <a:solidFill>
                  <a:srgbClr val="a69564"/>
                </a:solidFill>
                <a:latin typeface="Garamond"/>
              </a:rPr>
              <a:t>绪论</a:t>
            </a:r>
            <a:br>
              <a:rPr sz="3600"/>
            </a:b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920" y="1413000"/>
            <a:ext cx="7848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4b2500"/>
                </a:solidFill>
                <a:latin typeface="Garamond"/>
              </a:rPr>
              <a:t>        </a:t>
            </a:r>
            <a:r>
              <a:rPr b="1" lang="zh-CN" sz="3200" spc="-1" strike="noStrike">
                <a:solidFill>
                  <a:srgbClr val="4b2500"/>
                </a:solidFill>
                <a:latin typeface="Garamond"/>
              </a:rPr>
              <a:t>一、当代西方经济学流派的研究对象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         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当代西方经济学流派是指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936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年凯恩斯的《就业、利息与货币通论》发表以后，产生并流行于西方的主要经济理论或思潮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        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当代西方经济学流派是继 “西方经济学”与“经济学说史”或“经济思想史” 等课程的一门后续性课程。</a:t>
            </a:r>
            <a:r>
              <a:rPr b="0" lang="zh-CN" sz="40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038C-646D-43E7-BA3F-265AD8129A0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69564"/>
                </a:solidFill>
                <a:latin typeface="Garamond"/>
              </a:rPr>
              <a:t>二、所要介绍的主要流派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正统凯恩斯主义（或新古典综合派）；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非均衡学派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货币主义；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供给学派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新古典宏观经济学；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新凯恩斯主义。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DD98-E2AB-4E99-A5DF-34F3973934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69564"/>
                </a:solidFill>
                <a:latin typeface="Garamond"/>
              </a:rPr>
              <a:t>三、学习本课程的意义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加深对西方经济学尤其是宏观经济学的理解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2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更加完整地把握西方经济学的产生与发展过程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3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了解现代经济学研究的前沿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34A6F-B0DF-4751-9978-54C8504E1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69564"/>
                </a:solidFill>
                <a:latin typeface="Garamond"/>
              </a:rPr>
              <a:t>四、主要参考文献（综合类）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1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］布赖恩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斯诺登，霍华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文，彼得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温纳奇克．现代宏观经济学指南——各思想流派比较研究引论〔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M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〕．商务印书馆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1998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］布赖恩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斯诺登，霍华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R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文．现代宏观经济学——起源、发展和现状〔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M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〕．凤凰出版传媒集团，江苏人民出版社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2009.3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］方福前．当代西方经济学主要流派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[M]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中国人民大学出版社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2004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12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］小罗伯特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B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埃克伦德，罗伯特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·F·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赫伯特．经济理论和方法史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[M]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中国人民大学出版社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2001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8</a:t>
            </a:r>
            <a:r>
              <a:rPr b="0" lang="zh-CN" sz="24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593FB-CACF-4D3F-895A-183FD6C17F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69564"/>
                </a:solidFill>
                <a:latin typeface="Garamond"/>
              </a:rPr>
              <a:t>四、主要参考文献（综合类）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5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］默瑞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·N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罗斯巴德．古典经济学［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M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］．商务印书馆，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2012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．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0 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6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］马歇尔．经济学原理［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M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］．商务印书馆，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1964</a:t>
            </a:r>
            <a:r>
              <a:rPr b="0" lang="zh-CN" sz="3200" spc="-1" strike="noStrike">
                <a:solidFill>
                  <a:srgbClr val="4b2500"/>
                </a:solidFill>
                <a:latin typeface="Garamond"/>
              </a:rPr>
              <a:t>．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［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7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］凯恩斯．就业、利息和货币通论［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M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］．北京：商务印书馆，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981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．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9D58-44DA-4E8F-95F1-9745F164D3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69564"/>
                </a:solidFill>
                <a:latin typeface="Garamond"/>
              </a:rPr>
              <a:t>五、考核方式</a:t>
            </a:r>
            <a:endParaRPr b="1" lang="en-US" sz="36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平时成绩（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20%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）：作业（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0%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）与考勤（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10%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）；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2.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期末成绩（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80%</a:t>
            </a:r>
            <a:r>
              <a:rPr b="0" lang="zh-CN" sz="2800" spc="-1" strike="noStrike">
                <a:solidFill>
                  <a:srgbClr val="4b2500"/>
                </a:solidFill>
                <a:latin typeface="Garamond"/>
              </a:rPr>
              <a:t>）：小论文。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5221A-2140-4B35-AE4D-2C236A62964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01T02:05:56Z</dcterms:created>
  <dc:creator>微软用户</dc:creator>
  <dc:description/>
  <dc:language>en-US</dc:language>
  <cp:lastModifiedBy>微软用户</cp:lastModifiedBy>
  <dcterms:modified xsi:type="dcterms:W3CDTF">2015-03-09T07:57:10Z</dcterms:modified>
  <cp:revision>126</cp:revision>
  <dc:subject/>
  <dc:title> 第五章    新古典宏观经济学派 </dc:title>
</cp:coreProperties>
</file>